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4D8-42FB-4DCA-B676-F69F77FF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D58-8B47-4636-BA43-942C0D8E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BD9-4DCF-4489-9A9F-7FCA7A9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326-6E9B-4475-B53B-C7F860F0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A3B-082A-404C-A60E-89E4E06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7FF-8DCE-4353-B394-A034AD6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99A-6861-471B-B824-5FDA9478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6DE-AC00-4919-82FD-2F6E835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67C-D063-44DA-8A69-DA5701C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981-A958-4EB0-8592-7C515EF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C3A-B6DA-4B0B-A895-C7C7D31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E11-9C2F-45B7-AB51-59F2243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05E-7416-4479-95C6-FCACD29B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mpire.k12.ca.us/capistrano/Mike/capmusic/baroque/bach/bach.h1.jpg" TargetMode="External"/><Relationship Id="rId2" Type="http://schemas.openxmlformats.org/officeDocument/2006/relationships/hyperlink" Target="http://files.list.co.uk/images/2008/11/27/richter-mustang-staffel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Customs and Tra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mpire.k12.ca.us/capistrano/Mike/capmusic/baroque/bach/bach.h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iles.list.co.uk/images/2008/11/27/richter-mustang-staffel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paightwoodgalleries.com/Media/Pechstein_Kopf_F149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rthistoryunstuffed.com/german-expressionis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rmanculture.com.ua/library/weekly/gerhard_richt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aroquemusic.org/bqxjsba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Expressio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expressionism was more connected to relationships between art and society, politics and popular 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ant-Garde artists tried to free themselves from state restri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reamed of utopian dreams involving individual creativity, but want to still reach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rman expressionists were concerned about keeping their individuality while still attending to the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ressionism” in Germany meant “Modern art”. There was a rejection of  traditional Western conventions dating back to the Renaissa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971800" y="0"/>
            <a:ext cx="3286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chstein Kop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born in Dresden in 19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ork is full of art depicting reality and the actuality of pai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to work with artists such as Sigmar Polke, Konrad  Fischer-Lu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they created a group called the capitalist real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s Realists were satirical, deriving ideas from print med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0400" y="152280"/>
            <a:ext cx="327672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rhard Ric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19520" y="457200"/>
            <a:ext cx="341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ustang Staffe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8640" y="1852560"/>
            <a:ext cx="5886720" cy="31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895480" y="5334120"/>
            <a:ext cx="3276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e of Gerhards paint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 March 25 1685 in the town of Eisen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post of violinist in the small chamber orchestra of Duke Johann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organizing all of the facilities of Mühl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d at the small court of Anhalt- Cöthen  and received rank of Kapellme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high ideals for the church music of German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228600"/>
            <a:ext cx="4333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hann Sebastian Ba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95480" y="228600"/>
            <a:ext cx="31626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rtrait of Ba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2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did the Avant-Garde artists try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en was Gerhard bor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Free themselves from state restri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32:57Z</dcterms:created>
  <dc:creator>SCSadmin</dc:creator>
  <dc:description/>
  <dc:language>en-US</dc:language>
  <cp:lastModifiedBy>SCSadmin</cp:lastModifiedBy>
  <dcterms:modified xsi:type="dcterms:W3CDTF">2011-11-10T14:28:04Z</dcterms:modified>
  <cp:revision>9</cp:revision>
  <dc:subject/>
  <dc:title>Slide 1</dc:title>
</cp:coreProperties>
</file>